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FEDF-1718-486B-BB45-F54643D53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079B-FC58-46A9-BEAB-5E3DC162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3A88-D9F1-4811-9C57-2B7628FFE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5775-2959-454E-8C91-1FCFEB07E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1377-4BE5-44D2-92EF-44A362DD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F392-745A-4DE2-B1FC-9E5C7708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D308-ED09-4F4F-B680-CEBE653F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9B9D-73BA-49BD-8C44-E25A6DDB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026F-3992-455E-86F3-B980A2C1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E746-D7BC-4BC4-AE5E-111E5C4E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B90B-1E88-4A60-ABAA-9AD4A953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BD89-F02C-4FCA-82E2-1C3294EF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E265-9E63-4E47-8CCE-94F8E67B47F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ater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r. Richard C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hattanooga State Technical Community Colle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ransferring Water from One Place to Another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888000" y="1851120"/>
            <a:ext cx="5256000" cy="4591440"/>
            <a:chOff x="3888000" y="1851120"/>
            <a:chExt cx="5256000" cy="4591440"/>
          </a:xfrm>
        </p:grpSpPr>
        <p:grpSp>
          <p:nvGrpSpPr>
            <p:cNvPr id="195" name=""/>
            <p:cNvGrpSpPr/>
            <p:nvPr/>
          </p:nvGrpSpPr>
          <p:grpSpPr>
            <a:xfrm>
              <a:off x="3888000" y="1851120"/>
              <a:ext cx="5256000" cy="4591440"/>
              <a:chOff x="3888000" y="1851120"/>
              <a:chExt cx="5256000" cy="4591440"/>
            </a:xfrm>
          </p:grpSpPr>
          <p:sp>
            <p:nvSpPr>
              <p:cNvPr id="196" name=""/>
              <p:cNvSpPr/>
              <p:nvPr/>
            </p:nvSpPr>
            <p:spPr>
              <a:xfrm>
                <a:off x="4007520" y="3262320"/>
                <a:ext cx="909360" cy="422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North B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quedu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9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00760" y="1851120"/>
                <a:ext cx="4143240" cy="452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"/>
              <p:cNvSpPr/>
              <p:nvPr/>
            </p:nvSpPr>
            <p:spPr>
              <a:xfrm>
                <a:off x="4151160" y="3956040"/>
                <a:ext cx="935280" cy="422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outh B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quedu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888000" y="4622760"/>
                <a:ext cx="163008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alifornia Aquedu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091480" y="2125800"/>
                <a:ext cx="1119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ALIFORNI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549120" y="2298600"/>
                <a:ext cx="823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EVAD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934400" y="2351160"/>
                <a:ext cx="60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UTA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172360" y="6166080"/>
                <a:ext cx="78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MEXIC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823520" y="4859280"/>
                <a:ext cx="130860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entral Arizon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ro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690240" y="5540400"/>
                <a:ext cx="127512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olorado Ri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quedu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488640" y="4392720"/>
                <a:ext cx="108900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os Angel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quedu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559120" y="2446560"/>
                <a:ext cx="1032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hasta Lak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699880" y="3160800"/>
                <a:ext cx="1055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acrament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068520" y="3890880"/>
                <a:ext cx="689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resn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675200" y="5324400"/>
                <a:ext cx="775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hoeni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221680" y="5818320"/>
                <a:ext cx="723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ucs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240760" y="4510080"/>
                <a:ext cx="874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RIZON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342640" y="4146480"/>
                <a:ext cx="80100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Colorad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Ri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131360" y="2573280"/>
                <a:ext cx="1005120" cy="4590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ffffff"/>
                    </a:solidFill>
                    <a:latin typeface="Arial"/>
                  </a:rPr>
                  <a:t>Sacrament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ffffff"/>
                    </a:solidFill>
                    <a:latin typeface="Arial"/>
                  </a:rPr>
                  <a:t>Ri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957480" y="3659400"/>
                <a:ext cx="122616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n Francisc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585400" y="5089680"/>
                <a:ext cx="108900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Los Angel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817960" y="5480280"/>
                <a:ext cx="92736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n Dieg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076720" y="2710080"/>
                <a:ext cx="505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4914360" y="3403800"/>
                <a:ext cx="66708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949280" y="3559320"/>
                <a:ext cx="406440" cy="1825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4946760" y="3672000"/>
                <a:ext cx="591840" cy="4158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5140080" y="3888000"/>
                <a:ext cx="546120" cy="54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5243040" y="4192560"/>
                <a:ext cx="763560" cy="501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 flipH="1" flipV="1">
              <a:off x="7211520" y="5237280"/>
              <a:ext cx="95400" cy="33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600" y="1527120"/>
            <a:ext cx="4875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shed transf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2664000"/>
            <a:ext cx="40165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alifornia Water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4410000"/>
            <a:ext cx="41846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entra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rizona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00" y="6156360"/>
            <a:ext cx="2958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ames B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3800" y="6502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3.13, p. 3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apping Groundwater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4840" y="1630440"/>
            <a:ext cx="4028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ear-round 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73040" y="2930400"/>
            <a:ext cx="5317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 evaporation lo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74840" y="4232160"/>
            <a:ext cx="4976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ften less expens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4480" y="5533920"/>
            <a:ext cx="4932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tential Problem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roblems with Using Groundwater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800" y="1474920"/>
            <a:ext cx="8676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 table lowering 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 Fig. 13-15 p. 307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00" y="2343240"/>
            <a:ext cx="6165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pletion 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 Fig. 13-16 p. 308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80" y="3211560"/>
            <a:ext cx="663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bsidence 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 Fig. 13-16 p. 308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20" y="4081320"/>
            <a:ext cx="8268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altwater intrusion 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 Fig. 13-17 p. 308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00" y="4950000"/>
            <a:ext cx="5948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emical contami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80" y="5819760"/>
            <a:ext cx="5395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duced stream flo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259680" y="5472000"/>
            <a:ext cx="273204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ase Study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p. 3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onverting Salt Water to Fresh Water and Making it Rai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5960" y="1787400"/>
            <a:ext cx="5785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stillation desali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6680" y="3097080"/>
            <a:ext cx="689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verse osmosis desali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5960" y="4406760"/>
            <a:ext cx="6968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salination is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very expens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6680" y="5718240"/>
            <a:ext cx="3691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oud see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Using Water More Efficientl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40" y="1479600"/>
            <a:ext cx="6192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duce losses due to leak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00" y="2376360"/>
            <a:ext cx="433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form water la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80" y="3273480"/>
            <a:ext cx="9085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mprove irrigation efficiency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ig. 13-19 p. 311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80" y="4232160"/>
            <a:ext cx="7692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mproving manufacturing proce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20" y="5129280"/>
            <a:ext cx="6012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ater efficient landsca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40" y="6027840"/>
            <a:ext cx="5732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ater efficient applia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oo Much Water:  Flood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80" y="1544760"/>
            <a:ext cx="4529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tural phenome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9600" y="3613320"/>
            <a:ext cx="9104400" cy="3244680"/>
            <a:chOff x="39600" y="3613320"/>
            <a:chExt cx="9104400" cy="3244680"/>
          </a:xfrm>
        </p:grpSpPr>
        <p:pic>
          <p:nvPicPr>
            <p:cNvPr id="263" name="" descr=""/>
            <p:cNvPicPr/>
            <p:nvPr/>
          </p:nvPicPr>
          <p:blipFill>
            <a:blip r:embed="rId1"/>
            <a:stretch/>
          </p:blipFill>
          <p:spPr>
            <a:xfrm>
              <a:off x="39600" y="3613320"/>
              <a:ext cx="9104400" cy="32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29920" y="5919840"/>
              <a:ext cx="172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loodpla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80920" y="516096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ev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47960" y="540072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840920" y="5235480"/>
              <a:ext cx="1009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lo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97480" y="5473800"/>
              <a:ext cx="34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09640" y="434484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154400" y="433080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514600" y="3672000"/>
              <a:ext cx="15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servo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 flipV="1">
              <a:off x="4027320" y="3987720"/>
              <a:ext cx="25416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1080" y="2479680"/>
            <a:ext cx="4720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new and replen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54560" y="1738440"/>
            <a:ext cx="38894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gravated by human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543800" y="6583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13.22, p. 3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lutions:  Achieving a More Sustainable Water Future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79280" y="1706400"/>
            <a:ext cx="4709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fficient irrig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9640" y="3165480"/>
            <a:ext cx="6347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-saving technolog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82880" y="4624560"/>
            <a:ext cx="7230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mproving water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797480" y="5818320"/>
            <a:ext cx="5549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See Fig. 13-26 p. 3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20" y="1792440"/>
            <a:ext cx="6953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physical properties of 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20" y="2768760"/>
            <a:ext cx="5745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vailability of fresh 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0" y="3745080"/>
            <a:ext cx="8859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ethods of increasing freshwater supp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40" y="4721400"/>
            <a:ext cx="6151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ing water more efficient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00" y="5697360"/>
            <a:ext cx="7271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blems associated with floo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ater’s Unique Properti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3360" y="1214280"/>
            <a:ext cx="430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ydrogen bon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5160" y="1916280"/>
            <a:ext cx="7739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quid over wide temperature ra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3720" y="2617920"/>
            <a:ext cx="6192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anges temperature slow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4440" y="3319560"/>
            <a:ext cx="5493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gh heat of evapo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4440" y="4021200"/>
            <a:ext cx="5150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reat dissolving 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4080" y="4722840"/>
            <a:ext cx="1239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640" y="5424480"/>
            <a:ext cx="5103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dhesion and cohe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3720" y="6127920"/>
            <a:ext cx="5342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pands when it freez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upply of Water Resourc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9200" y="1446120"/>
            <a:ext cx="8985960" cy="4201200"/>
            <a:chOff x="79200" y="1446120"/>
            <a:chExt cx="8985960" cy="42012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79200" y="2525400"/>
              <a:ext cx="2751120" cy="29340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68" name="" descr=""/>
            <p:cNvPicPr/>
            <p:nvPr/>
          </p:nvPicPr>
          <p:blipFill>
            <a:blip r:embed="rId2"/>
            <a:stretch/>
          </p:blipFill>
          <p:spPr>
            <a:xfrm>
              <a:off x="4368600" y="2541600"/>
              <a:ext cx="2754360" cy="29257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69" name=""/>
            <p:cNvSpPr/>
            <p:nvPr/>
          </p:nvSpPr>
          <p:spPr>
            <a:xfrm>
              <a:off x="552960" y="1446120"/>
              <a:ext cx="18068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eshwa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346920" y="1446120"/>
              <a:ext cx="45180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adily accessible freshwa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179840" y="2055600"/>
              <a:ext cx="138312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io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001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401960" y="3122280"/>
              <a:ext cx="138312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iv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001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022160" y="4456080"/>
              <a:ext cx="204300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tmospher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ater vap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001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95480" y="2906640"/>
              <a:ext cx="1383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Lak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0.0007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44760" y="4011480"/>
              <a:ext cx="146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So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mois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0.0005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48200" y="2043000"/>
              <a:ext cx="207828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roundwa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592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06160" y="3914640"/>
              <a:ext cx="1959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Ice ca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and glaci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0.592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2825640" y="2896560"/>
              <a:ext cx="2006640" cy="1874880"/>
              <a:chOff x="2825640" y="2896560"/>
              <a:chExt cx="2006640" cy="1874880"/>
            </a:xfrm>
          </p:grpSpPr>
          <p:sp>
            <p:nvSpPr>
              <p:cNvPr id="79" name=""/>
              <p:cNvSpPr/>
              <p:nvPr/>
            </p:nvSpPr>
            <p:spPr>
              <a:xfrm flipV="1">
                <a:off x="2825640" y="2896560"/>
                <a:ext cx="2006640" cy="94788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25640" y="3907800"/>
                <a:ext cx="1828800" cy="86364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096360" y="3693960"/>
                <a:ext cx="12139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0.014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 flipH="1">
              <a:off x="1809360" y="2587320"/>
              <a:ext cx="672840" cy="67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6711840" y="2612520"/>
              <a:ext cx="469800" cy="46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50000" y="3235320"/>
              <a:ext cx="749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64120" y="3789360"/>
              <a:ext cx="469800" cy="59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3.2, p. 2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urface Water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2680" y="1577880"/>
            <a:ext cx="3803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rface runof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1960" y="2871720"/>
            <a:ext cx="3917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liable runof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2320" y="4165560"/>
            <a:ext cx="3126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sh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1240" y="5459400"/>
            <a:ext cx="3918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rainage bas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63360" y="1104840"/>
            <a:ext cx="9029880" cy="5753160"/>
            <a:chOff x="63360" y="1104840"/>
            <a:chExt cx="9029880" cy="5753160"/>
          </a:xfrm>
        </p:grpSpPr>
        <p:grpSp>
          <p:nvGrpSpPr>
            <p:cNvPr id="94" name=""/>
            <p:cNvGrpSpPr/>
            <p:nvPr/>
          </p:nvGrpSpPr>
          <p:grpSpPr>
            <a:xfrm>
              <a:off x="63360" y="1104840"/>
              <a:ext cx="9029880" cy="5753160"/>
              <a:chOff x="63360" y="1104840"/>
              <a:chExt cx="9029880" cy="575316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63360" y="1104840"/>
                <a:ext cx="9029880" cy="5743080"/>
                <a:chOff x="63360" y="1104840"/>
                <a:chExt cx="9029880" cy="5743080"/>
              </a:xfrm>
            </p:grpSpPr>
            <p:pic>
              <p:nvPicPr>
                <p:cNvPr id="96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3360" y="1114560"/>
                  <a:ext cx="9029880" cy="57308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7" name=""/>
                <p:cNvGrpSpPr/>
                <p:nvPr/>
              </p:nvGrpSpPr>
              <p:grpSpPr>
                <a:xfrm>
                  <a:off x="63360" y="1104840"/>
                  <a:ext cx="9004320" cy="5743080"/>
                  <a:chOff x="63360" y="1104840"/>
                  <a:chExt cx="9004320" cy="574308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63360" y="1104840"/>
                    <a:ext cx="0" cy="5727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75960" y="1104840"/>
                    <a:ext cx="8979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9067680" y="1104840"/>
                    <a:ext cx="0" cy="3670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3360" y="6845400"/>
                    <a:ext cx="7315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 flipV="1">
                    <a:off x="7394400" y="4774680"/>
                    <a:ext cx="1673280" cy="2073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3" name=""/>
              <p:cNvSpPr/>
              <p:nvPr/>
            </p:nvSpPr>
            <p:spPr>
              <a:xfrm flipV="1">
                <a:off x="7378560" y="5423040"/>
                <a:ext cx="0" cy="1434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7391160" y="4584600"/>
                <a:ext cx="1041480" cy="81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6158880" y="5410080"/>
                <a:ext cx="121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1866960" y="4381560"/>
              <a:ext cx="296640" cy="507960"/>
            </a:xfrm>
            <a:prstGeom prst="downArrow">
              <a:avLst>
                <a:gd name="adj1" fmla="val 50000"/>
                <a:gd name="adj2" fmla="val 42809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7100000">
              <a:off x="3340440" y="3287880"/>
              <a:ext cx="297000" cy="507960"/>
            </a:xfrm>
            <a:prstGeom prst="downArrow">
              <a:avLst>
                <a:gd name="adj1" fmla="val 50000"/>
                <a:gd name="adj2" fmla="val 42758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21240" y="4927680"/>
              <a:ext cx="296640" cy="761760"/>
            </a:xfrm>
            <a:prstGeom prst="downArrow">
              <a:avLst>
                <a:gd name="adj1" fmla="val 50000"/>
                <a:gd name="adj2" fmla="val 64199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0800000">
              <a:off x="4749840" y="2577960"/>
              <a:ext cx="309600" cy="2082960"/>
            </a:xfrm>
            <a:prstGeom prst="downArrow">
              <a:avLst>
                <a:gd name="adj1" fmla="val 50000"/>
                <a:gd name="adj2" fmla="val 168198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0800000">
              <a:off x="5752800" y="2577600"/>
              <a:ext cx="309240" cy="1892520"/>
            </a:xfrm>
            <a:prstGeom prst="downArrow">
              <a:avLst>
                <a:gd name="adj1" fmla="val 50000"/>
                <a:gd name="adj2" fmla="val 152998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0800000">
              <a:off x="6730920" y="2577960"/>
              <a:ext cx="309600" cy="1625760"/>
            </a:xfrm>
            <a:prstGeom prst="downArrow">
              <a:avLst>
                <a:gd name="adj1" fmla="val 50000"/>
                <a:gd name="adj2" fmla="val 131279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0800000">
              <a:off x="7785000" y="3085920"/>
              <a:ext cx="309600" cy="1663920"/>
            </a:xfrm>
            <a:prstGeom prst="downArrow">
              <a:avLst>
                <a:gd name="adj1" fmla="val 50000"/>
                <a:gd name="adj2" fmla="val 134360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18160" y="2271600"/>
              <a:ext cx="251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vaporation and transpi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59840" y="2766960"/>
              <a:ext cx="113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vapo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00560" y="450684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60640" y="5078520"/>
              <a:ext cx="95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filt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19320" y="4811760"/>
              <a:ext cx="109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ter 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68200" y="4748040"/>
              <a:ext cx="95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filt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25800" y="5408640"/>
              <a:ext cx="167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confined aqui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07440" y="6030720"/>
              <a:ext cx="148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fined aqui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04080" y="4913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165560" y="2717640"/>
              <a:ext cx="0" cy="212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33280" y="2411280"/>
              <a:ext cx="191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ell requiring a pum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984400" y="1980720"/>
              <a:ext cx="0" cy="287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92560" y="1446120"/>
              <a:ext cx="1172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low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tesian we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78000" y="3795840"/>
              <a:ext cx="70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unof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1040" y="2017800"/>
              <a:ext cx="116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ecipi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20" y="2894040"/>
              <a:ext cx="1438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fin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charge Ar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083480" y="441792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qui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3568680" y="51307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724480" y="5844960"/>
              <a:ext cx="25308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3029040" y="5844960"/>
              <a:ext cx="25308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892680" y="5514840"/>
              <a:ext cx="25344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4197600" y="5514840"/>
              <a:ext cx="25344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60440" y="6183360"/>
              <a:ext cx="2264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ess permeable mater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uch as cl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68880" y="6487920"/>
              <a:ext cx="296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nfirming permeable rock la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round Water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0652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43800" y="7016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3.3, p. 2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Use of Water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40" y="1546200"/>
            <a:ext cx="8733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umans use about 50% of reliable run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60" y="2430360"/>
            <a:ext cx="2914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ricul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20" y="3314880"/>
            <a:ext cx="2333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dust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00" y="4199040"/>
            <a:ext cx="2432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omest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0" y="5084640"/>
            <a:ext cx="3182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wer pl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689280" y="2273400"/>
            <a:ext cx="3603960" cy="4460040"/>
            <a:chOff x="3689280" y="2273400"/>
            <a:chExt cx="3603960" cy="44600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rcRect l="0" t="0" r="54686" b="0"/>
            <a:stretch/>
          </p:blipFill>
          <p:spPr>
            <a:xfrm>
              <a:off x="3689280" y="2975040"/>
              <a:ext cx="3533760" cy="25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4390920" y="2273400"/>
              <a:ext cx="212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98440" y="5791320"/>
              <a:ext cx="20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ndustry 11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03320" y="627372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ublic 1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81600" y="3489120"/>
              <a:ext cx="996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ol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8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59040" y="3286080"/>
              <a:ext cx="140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gricul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8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33800" y="5141880"/>
              <a:ext cx="0" cy="596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397560" y="5141880"/>
              <a:ext cx="0" cy="1014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3.5, p. 2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oo Little Water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600" y="1527120"/>
            <a:ext cx="318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ry clim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960" y="2689200"/>
            <a:ext cx="2589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rough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240" y="3852720"/>
            <a:ext cx="3086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ss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9960" y="5016600"/>
            <a:ext cx="3353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 st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876840" y="1320840"/>
            <a:ext cx="5179680" cy="326880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3900600" y="4479840"/>
            <a:ext cx="5130720" cy="2132640"/>
            <a:chOff x="3900600" y="4479840"/>
            <a:chExt cx="5130720" cy="2132640"/>
          </a:xfrm>
        </p:grpSpPr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3900600" y="4514760"/>
              <a:ext cx="676080" cy="17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4664880" y="4479840"/>
              <a:ext cx="203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cute short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65600" y="495936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dequate supp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66320" y="5460840"/>
              <a:ext cx="12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hort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65600" y="5908680"/>
              <a:ext cx="4365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etropolitan regions with population greater than 1 mil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48096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3.8, p. 2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Using Dams and Reservoirs to Supply More Water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01520" y="1631880"/>
            <a:ext cx="9042480" cy="5150520"/>
            <a:chOff x="101520" y="1631880"/>
            <a:chExt cx="9042480" cy="5150520"/>
          </a:xfrm>
        </p:grpSpPr>
        <p:pic>
          <p:nvPicPr>
            <p:cNvPr id="174" name="" descr=""/>
            <p:cNvPicPr/>
            <p:nvPr/>
          </p:nvPicPr>
          <p:blipFill>
            <a:blip r:embed="rId1"/>
            <a:stretch/>
          </p:blipFill>
          <p:spPr>
            <a:xfrm>
              <a:off x="101520" y="3222720"/>
              <a:ext cx="8839440" cy="30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65280" y="2394000"/>
              <a:ext cx="1776240" cy="824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arge lo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f water throu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vapo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35320" y="1708200"/>
              <a:ext cx="2527200" cy="824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looded land destroys forests or cropland 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splaces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08640" y="2604960"/>
              <a:ext cx="2344680" cy="531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ownstream flooding is reduc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34120" y="1631880"/>
              <a:ext cx="2747880" cy="824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ownstream cropland 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stuaries are deprived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utrient-rich si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8520" y="4618080"/>
              <a:ext cx="2469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oir is useful for recreation and fis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77920" y="5884920"/>
              <a:ext cx="4546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an produce cheap electric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hydropowe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57280" y="6445080"/>
              <a:ext cx="5383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igration and spawning of some fish are disrup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90440" y="5156280"/>
              <a:ext cx="16225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ovides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or year-rou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rrigation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ropl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1531800" y="3171960"/>
              <a:ext cx="0" cy="9396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602160" y="2650680"/>
              <a:ext cx="0" cy="16131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5784840" y="3073320"/>
              <a:ext cx="992160" cy="19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615080" y="2574720"/>
              <a:ext cx="0" cy="23367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2759040" y="4452840"/>
              <a:ext cx="1254240" cy="47016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4579920" y="5021280"/>
              <a:ext cx="836640" cy="79200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6815160" y="5165640"/>
              <a:ext cx="0" cy="13082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6911640" y="5103000"/>
              <a:ext cx="431640" cy="24912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43800" y="6494400"/>
              <a:ext cx="160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. 13.9, p. 3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Christopher Ota</cp:lastModifiedBy>
  <dcterms:modified xsi:type="dcterms:W3CDTF">2001-08-10T19:54:15Z</dcterms:modified>
  <cp:revision>33</cp:revision>
  <dc:subject/>
  <dc:title>PowerPoint Presentation</dc:title>
</cp:coreProperties>
</file>